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90720" y="767880"/>
            <a:ext cx="5108400" cy="382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0720" cy="4594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1"/>
          </p:nvPr>
        </p:nvSpPr>
        <p:spPr>
          <a:xfrm>
            <a:off x="402084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82C8C-BB43-4D89-BFBA-9A07C5535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EF24F-9999-4DA6-AD75-9B9C4731D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34BB2-A137-4D56-8742-77446434B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4FF08-11D9-403E-8165-ABBD73B52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46613-F0F4-48FC-8C1A-E5C6DFDD2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CE341-DB46-4AFD-95B3-C2B996183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F334A-8F2A-45EF-9BE6-0E422A394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B639D-8921-4A88-80B1-C6783C867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ACBEB-7B84-4A82-B798-134174AD8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C3A97-645B-498A-A341-803478BCC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C0076-8505-4230-AFD6-F2DDDC11E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3EC2C-9CCD-4340-85BC-A830492F6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AC74A-3E4C-42CD-B031-35ADC8669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955CC-2B70-4EDA-AAED-4C626A3A6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845D0-83CA-425A-B685-4304136E1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1A93D-208B-4BF3-AAEA-14E22D54B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9992A-360B-4AAC-A4A8-92C9D92D9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A97F3-D267-4FF6-B960-822A39CB4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9E17D-A944-4D5C-986D-F6E71C3F8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37AF7-9B1E-49EB-8474-6FB17F3F8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6244B-A577-4055-8EF2-AC52D99EF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E1B0F-20C4-436F-949A-2E528FDA5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0A294-1700-42C3-A9CE-75B70E1CA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CEE96-C07C-4731-9160-97BBFE14D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5286F-F596-4EAD-858A-7CCDBBB24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787F9-1B11-4FC5-A176-0A6158862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6F554-91E7-4E8C-9305-D44419F5C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B3E3F-D759-4FFB-AFD0-1892F34DA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85CF8-9639-4796-BAF2-8789D8DB3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EBAA0-7C5B-4FC4-A9D1-4213526B8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826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18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304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9826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7618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63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26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18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304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26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18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63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"/>
          <p:cNvGraphicFramePr/>
          <p:nvPr/>
        </p:nvGraphicFramePr>
        <p:xfrm>
          <a:off x="7861320" y="6343560"/>
          <a:ext cx="11764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61320" y="6343560"/>
                    <a:ext cx="1176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6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4"/>
          <a:stretch/>
        </p:blipFill>
        <p:spPr>
          <a:xfrm>
            <a:off x="6881760" y="6399360"/>
            <a:ext cx="863640" cy="3823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5"/>
          <p:cNvSpPr/>
          <p:nvPr/>
        </p:nvSpPr>
        <p:spPr>
          <a:xfrm>
            <a:off x="0" y="1000080"/>
            <a:ext cx="9150480" cy="4608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1440" y="928800"/>
            <a:ext cx="9150480" cy="2700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0" y="960480"/>
            <a:ext cx="9150480" cy="4608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8"/>
          <p:cNvSpPr/>
          <p:nvPr/>
        </p:nvSpPr>
        <p:spPr>
          <a:xfrm>
            <a:off x="1440" y="903240"/>
            <a:ext cx="9150480" cy="2700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1440" y="6224760"/>
            <a:ext cx="9150480" cy="4572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0"/>
          <p:cNvSpPr/>
          <p:nvPr/>
        </p:nvSpPr>
        <p:spPr>
          <a:xfrm>
            <a:off x="1440" y="6251400"/>
            <a:ext cx="9150480" cy="6372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542880" y="644832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2"/>
          <p:cNvSpPr/>
          <p:nvPr/>
        </p:nvSpPr>
        <p:spPr>
          <a:xfrm>
            <a:off x="57240" y="64152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9EA3E-2F10-4604-ACF3-D073BCC6F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6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328760" y="1076400"/>
            <a:ext cx="7020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00000"/>
                </a:solidFill>
                <a:latin typeface="Arial"/>
              </a:rPr>
              <a:t>Meta-Programming with Modelica</a:t>
            </a:r>
            <a:br>
              <a:rPr sz="4000"/>
            </a:br>
            <a:br>
              <a:rPr sz="3600"/>
            </a:br>
            <a:r>
              <a:rPr b="0" lang="en-US" sz="3600" spc="-1" strike="noStrike">
                <a:solidFill>
                  <a:srgbClr val="600000"/>
                </a:solidFill>
                <a:latin typeface="Arial"/>
              </a:rPr>
              <a:t>for MetaModeling and Model Transformation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319120" y="4691160"/>
            <a:ext cx="493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Peter Fritzson, Adrian Pop, Martin Sjölu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OpenModelica Course, 2011-09-1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03040" y="6480"/>
            <a:ext cx="8940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imple Expression Interpreter – with equation keyword, match, c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Group 2"/>
          <p:cNvGrpSpPr/>
          <p:nvPr/>
        </p:nvGrpSpPr>
        <p:grpSpPr>
          <a:xfrm>
            <a:off x="622440" y="1536840"/>
            <a:ext cx="5902200" cy="4483080"/>
            <a:chOff x="622440" y="1536840"/>
            <a:chExt cx="5902200" cy="4483080"/>
          </a:xfrm>
        </p:grpSpPr>
        <p:sp>
          <p:nvSpPr>
            <p:cNvPr id="185" name="Rectangle 3"/>
            <p:cNvSpPr/>
            <p:nvPr/>
          </p:nvSpPr>
          <p:spPr>
            <a:xfrm>
              <a:off x="754200" y="1687680"/>
              <a:ext cx="5540400" cy="4332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4"/>
            <p:cNvSpPr/>
            <p:nvPr/>
          </p:nvSpPr>
          <p:spPr>
            <a:xfrm>
              <a:off x="622440" y="1536840"/>
              <a:ext cx="5575320" cy="437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5"/>
            <p:cNvSpPr/>
            <p:nvPr/>
          </p:nvSpPr>
          <p:spPr>
            <a:xfrm>
              <a:off x="663480" y="1554120"/>
              <a:ext cx="586116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function eval "Evaluates integer expression tree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input  Exp     ex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output Integer intval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intval :=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atchcontinue exp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ocal Integer v1,v2; Exp e1,e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INTconst(v1) then v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PLUS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+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SUB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-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MUL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*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DIV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/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NEGop(e1) 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val(e1) = v1; then  -v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nd eval;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6975360" y="2646360"/>
            <a:ext cx="240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Local variables with scope inside case express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785960" y="2825640"/>
            <a:ext cx="2724120" cy="23652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4554360" y="2914560"/>
            <a:ext cx="2248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989760" y="380196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Local equations with local unknowns v1, v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1355760" y="3935520"/>
            <a:ext cx="3233880" cy="21564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645080" y="3929040"/>
            <a:ext cx="2082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000920" y="436104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A returned 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5138640" y="4329000"/>
            <a:ext cx="630360" cy="24156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5799240" y="4451400"/>
            <a:ext cx="1104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6977160" y="3179880"/>
            <a:ext cx="21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Pattern binding local pattern variables e1,  e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1711440" y="3287880"/>
            <a:ext cx="1353960" cy="22860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2981160" y="3321000"/>
            <a:ext cx="3924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203040" y="-64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ransformation Example</a:t>
            </a:r>
            <a:br>
              <a:rPr sz="2800"/>
            </a:b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imple Symbolic Differentia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177840" y="1095480"/>
            <a:ext cx="4340160" cy="5022720"/>
            <a:chOff x="177840" y="1095480"/>
            <a:chExt cx="4340160" cy="5022720"/>
          </a:xfrm>
        </p:grpSpPr>
        <p:sp>
          <p:nvSpPr>
            <p:cNvPr id="203" name="Rectangle 4"/>
            <p:cNvSpPr/>
            <p:nvPr/>
          </p:nvSpPr>
          <p:spPr>
            <a:xfrm>
              <a:off x="247680" y="1247760"/>
              <a:ext cx="4270320" cy="4870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>
              <a:off x="177840" y="1130400"/>
              <a:ext cx="4292640" cy="49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208080" y="1095480"/>
              <a:ext cx="422424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protected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functio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di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xp exp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timeva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out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xp diffExp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iffExpr :=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matchcontinu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expr,timevar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loc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d,id1,id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xp e1prim,e2prim,e1,e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der of constan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INT(_), _)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der of time variabl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(IDENT(id1), id2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ru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= id1 ==&amp; id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1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</a:t>
              </a:r>
              <a:r>
                <a:rPr b="0" lang="sv-SE" sz="1200" spc="-1" strike="noStrike">
                  <a:solidFill>
                    <a:srgbClr val="008200"/>
                  </a:solidFill>
                  <a:latin typeface="Courier New"/>
                </a:rPr>
                <a:t>der of time-independent variabl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IDENT(_), _)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7"/>
          <p:cNvGrpSpPr/>
          <p:nvPr/>
        </p:nvGrpSpPr>
        <p:grpSpPr>
          <a:xfrm>
            <a:off x="4648320" y="1095480"/>
            <a:ext cx="4354560" cy="5046480"/>
            <a:chOff x="4648320" y="1095480"/>
            <a:chExt cx="4354560" cy="5046480"/>
          </a:xfrm>
        </p:grpSpPr>
        <p:sp>
          <p:nvSpPr>
            <p:cNvPr id="207" name="Rectangle 8"/>
            <p:cNvSpPr/>
            <p:nvPr/>
          </p:nvSpPr>
          <p:spPr>
            <a:xfrm>
              <a:off x="4719600" y="1247760"/>
              <a:ext cx="4283280" cy="4894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4648320" y="1130400"/>
              <a:ext cx="4305240" cy="49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>
              <a:off x="4676760" y="1095480"/>
              <a:ext cx="423720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e1+e2)’ =&gt; e1’+e2’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ADD(e1,e2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ADD(e1prim,e2prim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e1/e2)’ =&gt; (e1’*e2 – e1*e2’)/e2*e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DIV(e1,e2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DIV(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SUB(MUL(e1prim,e2),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UL(e1,e2prim)),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UL(e2,e2)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-e1)’ =&gt; -e1’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NEG(e1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NEG(e1prim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General Syntactic Structure of match-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203040" y="1125360"/>
            <a:ext cx="135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1447920" y="1206360"/>
            <a:ext cx="6804000" cy="4327560"/>
            <a:chOff x="1447920" y="1206360"/>
            <a:chExt cx="6804000" cy="4327560"/>
          </a:xfrm>
        </p:grpSpPr>
        <p:sp>
          <p:nvSpPr>
            <p:cNvPr id="213" name="Rectangle 4"/>
            <p:cNvSpPr/>
            <p:nvPr/>
          </p:nvSpPr>
          <p:spPr>
            <a:xfrm>
              <a:off x="1569960" y="1325520"/>
              <a:ext cx="6681960" cy="4208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1447920" y="1206360"/>
              <a:ext cx="6681600" cy="420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1455840" y="1222200"/>
              <a:ext cx="66387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expr&gt;  &lt;opt-local-decl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end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matchcontinue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101520" y="23184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emantics of Local Equations in match-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03040" y="1125360"/>
            <a:ext cx="84582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lgebraic equations are allowed, no differential equ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locally declared variables (local unknowns) declared by local declarations within the case expression are solved f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are solved in the order they are declared. (This restriction may be removed in the future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equation or an expression i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ranch of a matchcontinue-expression fails, all local variables become unbound, and matching continues with the next branch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01520" y="37152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emantics of Local Equations  cont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203040" y="1125360"/>
            <a:ext cx="8407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equations in match-expressions do not solve for any variables – they may be called "constraints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 variables are already bound in these equ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equation may either be fulfilled (succeed) or not (fai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here can locally be more equations than unbound variables, if including the constra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1201680" y="3262320"/>
            <a:ext cx="4556160" cy="1596960"/>
            <a:chOff x="1201680" y="3262320"/>
            <a:chExt cx="4556160" cy="1596960"/>
          </a:xfrm>
        </p:grpSpPr>
        <p:sp>
          <p:nvSpPr>
            <p:cNvPr id="221" name="Rectangle 4"/>
            <p:cNvSpPr/>
            <p:nvPr/>
          </p:nvSpPr>
          <p:spPr>
            <a:xfrm>
              <a:off x="1282680" y="3308400"/>
              <a:ext cx="4475160" cy="155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1201680" y="3262320"/>
              <a:ext cx="4475160" cy="155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local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al x=5; Integer y = 10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rue = x&gt;4;   // Succeeds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rue = y&lt;10;  // Fails!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List Data Struc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03040" y="1125360"/>
            <a:ext cx="86997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ype-expr&gt; is a list type constr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type RealList =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;   type is a list of re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lis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variable that is a list of re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l1,el2,el3, ...) is a list data constructor that creates a list of elements of identical typ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) empty li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2,3,4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2,3,4) list of integ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{el1,el2,el3, ...} overloaded array or list constructor, interpre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)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) depending on type contex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} or list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notes an empty reference to a list or tre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dds an element in front of the li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turns the resulting li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What Does PolyMorphic Mea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Morphic – adapt to multiple typ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 – multiple, morphic – adap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– An operation is only defined for one type, e.g.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rrayInsertElement(intelement, intAr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olymorphic function is defined for multiple types, e.g. elements in an array can be of any type: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rrayInsertElement(anyElement, anyAr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Predefined Polymorphic List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127080" y="1171440"/>
            <a:ext cx="4468680" cy="5021280"/>
            <a:chOff x="127080" y="1171440"/>
            <a:chExt cx="4468680" cy="5021280"/>
          </a:xfrm>
        </p:grpSpPr>
        <p:sp>
          <p:nvSpPr>
            <p:cNvPr id="230" name="Rectangle 4"/>
            <p:cNvSpPr/>
            <p:nvPr/>
          </p:nvSpPr>
          <p:spPr>
            <a:xfrm>
              <a:off x="200160" y="1324080"/>
              <a:ext cx="4395600" cy="4868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27080" y="1204920"/>
              <a:ext cx="4417920" cy="491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6"/>
            <p:cNvSpPr/>
            <p:nvPr/>
          </p:nvSpPr>
          <p:spPr>
            <a:xfrm>
              <a:off x="155520" y="1171440"/>
              <a:ext cx="4348080" cy="32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pend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pend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verse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vers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gth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Integer len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gt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Group 7"/>
          <p:cNvGrpSpPr/>
          <p:nvPr/>
        </p:nvGrpSpPr>
        <p:grpSpPr>
          <a:xfrm>
            <a:off x="4711680" y="1158840"/>
            <a:ext cx="4429080" cy="5046840"/>
            <a:chOff x="4711680" y="1158840"/>
            <a:chExt cx="4429080" cy="5046840"/>
          </a:xfrm>
        </p:grpSpPr>
        <p:sp>
          <p:nvSpPr>
            <p:cNvPr id="234" name="Rectangle 8"/>
            <p:cNvSpPr/>
            <p:nvPr/>
          </p:nvSpPr>
          <p:spPr>
            <a:xfrm>
              <a:off x="4782960" y="1311120"/>
              <a:ext cx="4357800" cy="4894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>
              <a:off x="4711680" y="1193760"/>
              <a:ext cx="4379760" cy="49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10"/>
            <p:cNvSpPr/>
            <p:nvPr/>
          </p:nvSpPr>
          <p:spPr>
            <a:xfrm>
              <a:off x="4741920" y="1158840"/>
              <a:ext cx="430992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mber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Eltype elem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Boolean resul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mbe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h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Integer elindex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Eltype elem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lete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Type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Integer  elindex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Type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ype ListType = list&lt;Eltype&gt;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203040" y="19368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Function Formal Parame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03040" y="1125360"/>
            <a:ext cx="87505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can be passed as actual arguments at function call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checking done on the function formal parameter type signature, not including the actual names of inputs and outputs to the passed func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258840" y="2111400"/>
            <a:ext cx="8883720" cy="1846080"/>
            <a:chOff x="258840" y="2111400"/>
            <a:chExt cx="8883720" cy="1846080"/>
          </a:xfrm>
        </p:grpSpPr>
        <p:sp>
          <p:nvSpPr>
            <p:cNvPr id="240" name="Rectangle 4"/>
            <p:cNvSpPr/>
            <p:nvPr/>
          </p:nvSpPr>
          <p:spPr>
            <a:xfrm>
              <a:off x="401760" y="2135160"/>
              <a:ext cx="8740800" cy="1822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5"/>
            <p:cNvSpPr/>
            <p:nvPr/>
          </p:nvSpPr>
          <p:spPr>
            <a:xfrm>
              <a:off x="258840" y="2111400"/>
              <a:ext cx="8740800" cy="182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intListMap   "Map over a list of integer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list&lt;Integer&gt; in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Integer&gt; out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input Integer x1; output Integer x2; end Functyp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intListMa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Group 6"/>
          <p:cNvGrpSpPr/>
          <p:nvPr/>
        </p:nvGrpSpPr>
        <p:grpSpPr>
          <a:xfrm>
            <a:off x="217440" y="3975120"/>
            <a:ext cx="8925120" cy="2143080"/>
            <a:chOff x="217440" y="3975120"/>
            <a:chExt cx="8925120" cy="2143080"/>
          </a:xfrm>
        </p:grpSpPr>
        <p:sp>
          <p:nvSpPr>
            <p:cNvPr id="243" name="Rectangle 7"/>
            <p:cNvSpPr/>
            <p:nvPr/>
          </p:nvSpPr>
          <p:spPr>
            <a:xfrm>
              <a:off x="378000" y="4033800"/>
              <a:ext cx="8764560" cy="2084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8"/>
            <p:cNvSpPr/>
            <p:nvPr/>
          </p:nvSpPr>
          <p:spPr>
            <a:xfrm>
              <a:off x="217440" y="3975120"/>
              <a:ext cx="8764560" cy="20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9"/>
            <p:cNvSpPr/>
            <p:nvPr/>
          </p:nvSpPr>
          <p:spPr>
            <a:xfrm>
              <a:off x="228600" y="3979800"/>
              <a:ext cx="87058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Map&lt;Type_a&gt; "Map over elements of type Type_a, a type parameter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list&lt;Type_a&gt; in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Type_a&gt; out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 input Type_a x1; output Type_a x2; end Functyp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Ma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03040" y="-190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Calling Functions with Function Formal Parameters and/or Parameterized Typ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203040" y="1125360"/>
            <a:ext cx="875052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with passed function arguments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_list_map(add1,intlst1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d using type 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r uses type inference to derive type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able type parame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Integ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list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Integer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Map(add1, intlst1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241200" y="2933640"/>
            <a:ext cx="8634600" cy="1459080"/>
            <a:chOff x="241200" y="2933640"/>
            <a:chExt cx="8634600" cy="1459080"/>
          </a:xfrm>
        </p:grpSpPr>
        <p:sp>
          <p:nvSpPr>
            <p:cNvPr id="249" name="Rectangle 4"/>
            <p:cNvSpPr/>
            <p:nvPr/>
          </p:nvSpPr>
          <p:spPr>
            <a:xfrm>
              <a:off x="396720" y="2973240"/>
              <a:ext cx="8479080" cy="1419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5"/>
            <p:cNvSpPr/>
            <p:nvPr/>
          </p:nvSpPr>
          <p:spPr>
            <a:xfrm>
              <a:off x="241200" y="2933640"/>
              <a:ext cx="8479080" cy="14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252360" y="2938320"/>
              <a:ext cx="84218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call function intListMap   "Map over a list of integer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tlst2 := intListMap(add1, intlst1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Group 7"/>
          <p:cNvGrpSpPr/>
          <p:nvPr/>
        </p:nvGrpSpPr>
        <p:grpSpPr>
          <a:xfrm>
            <a:off x="254160" y="4559400"/>
            <a:ext cx="8672400" cy="1636560"/>
            <a:chOff x="254160" y="4559400"/>
            <a:chExt cx="8672400" cy="1636560"/>
          </a:xfrm>
        </p:grpSpPr>
        <p:sp>
          <p:nvSpPr>
            <p:cNvPr id="253" name="Rectangle 8"/>
            <p:cNvSpPr/>
            <p:nvPr/>
          </p:nvSpPr>
          <p:spPr>
            <a:xfrm>
              <a:off x="411120" y="4605480"/>
              <a:ext cx="8515440" cy="1590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254160" y="4559400"/>
              <a:ext cx="8515080" cy="159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264960" y="4564080"/>
              <a:ext cx="8458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call function listMap   "Map over a list of Type_a – a type parameter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tlst2 := listMap(add1, intlst1);  // The type parameter is inferred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Extensibility and Modularity of Modeling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and simulation tools are too monolith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and tools need to be extensible and modul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, query, manipulation, composition and management of mode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odeling of operations on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uple Data Struc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203040" y="1125360"/>
            <a:ext cx="8775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les are anonymous records without field n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le&lt;...&gt; – tuple type constructor (keyword not need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ype VarBND  = tuple&lt;Ident, Integer&gt;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uple&lt;Real,Integer&gt; realintpair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3.14, "this is a string"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ca functions with multiple results return tu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,b,c) := foo(x, 2, 3, 5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Option Type Constru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203040" y="1125360"/>
            <a:ext cx="869976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ype constructor, parameterized by some type (e.g.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creates a kind of uniontype with the predefined constructor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SOME(..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consta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ith no arguments automatically belongs to any option type. A constructor call such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OME(x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x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as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has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&lt;Type_a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ly equivalent to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888840" y="4660920"/>
            <a:ext cx="7083720" cy="1370160"/>
            <a:chOff x="888840" y="4660920"/>
            <a:chExt cx="7083720" cy="1370160"/>
          </a:xfrm>
        </p:grpSpPr>
        <p:sp>
          <p:nvSpPr>
            <p:cNvPr id="261" name="Rectangle 4"/>
            <p:cNvSpPr/>
            <p:nvPr/>
          </p:nvSpPr>
          <p:spPr>
            <a:xfrm>
              <a:off x="1015920" y="4699080"/>
              <a:ext cx="6956640" cy="1332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5"/>
            <p:cNvSpPr/>
            <p:nvPr/>
          </p:nvSpPr>
          <p:spPr>
            <a:xfrm>
              <a:off x="888840" y="4660920"/>
              <a:ext cx="6956640" cy="13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>
              <a:off x="896760" y="4665600"/>
              <a:ext cx="6910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Option&lt;Type_a&g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ONE  end NON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SOME  Type_a x1;  end SOM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Option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7"/>
          <p:cNvGrpSpPr/>
          <p:nvPr/>
        </p:nvGrpSpPr>
        <p:grpSpPr>
          <a:xfrm>
            <a:off x="914400" y="2082960"/>
            <a:ext cx="6727680" cy="769680"/>
            <a:chOff x="914400" y="2082960"/>
            <a:chExt cx="6727680" cy="769680"/>
          </a:xfrm>
        </p:grpSpPr>
        <p:sp>
          <p:nvSpPr>
            <p:cNvPr id="265" name="Rectangle 8"/>
            <p:cNvSpPr/>
            <p:nvPr/>
          </p:nvSpPr>
          <p:spPr>
            <a:xfrm>
              <a:off x="1035000" y="2103480"/>
              <a:ext cx="6607080" cy="749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9"/>
            <p:cNvSpPr/>
            <p:nvPr/>
          </p:nvSpPr>
          <p:spPr>
            <a:xfrm>
              <a:off x="914400" y="2082960"/>
              <a:ext cx="6607080" cy="74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0"/>
            <p:cNvSpPr/>
            <p:nvPr/>
          </p:nvSpPr>
          <p:spPr>
            <a:xfrm>
              <a:off x="920880" y="2085840"/>
              <a:ext cx="65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placeable type Type_a subtypeof Any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ype Option_a = Option&lt;Type_a&gt;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203040" y="23184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esting for Fail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203040" y="1087560"/>
            <a:ext cx="894096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cal equation may fail or succe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iltin equation operat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rg) succeeds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ils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local eq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876240" y="4394160"/>
            <a:ext cx="6703920" cy="1164240"/>
            <a:chOff x="876240" y="4394160"/>
            <a:chExt cx="6703920" cy="1164240"/>
          </a:xfrm>
        </p:grpSpPr>
        <p:sp>
          <p:nvSpPr>
            <p:cNvPr id="271" name="Rectangle 4"/>
            <p:cNvSpPr/>
            <p:nvPr/>
          </p:nvSpPr>
          <p:spPr>
            <a:xfrm>
              <a:off x="1025640" y="4427640"/>
              <a:ext cx="6291000" cy="944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5"/>
            <p:cNvSpPr/>
            <p:nvPr/>
          </p:nvSpPr>
          <p:spPr>
            <a:xfrm>
              <a:off x="876240" y="4394160"/>
              <a:ext cx="6330960" cy="9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925560" y="4398840"/>
              <a:ext cx="6654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((id2,_) :: rest, id)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failure(true =  id ==&amp; id2);  value = lookup(rest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then val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444600" y="3513240"/>
            <a:ext cx="39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, testing for failure in Modelic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Generating a fail "Exception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fail the current case-branch in the match-expression and continue with the next branc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no more case-branches, the enclosing function will fai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or equation may fail for other reasons, e.g. division by zero, no match, unsolvable equ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s-expressions in Pattern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bound local variable (declar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an be set equal to an expression in a pattern expression through an as-express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used to give another nam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variable may only be associated with o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he expression equati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 as Absyn.IDENT("der"), expl,b,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atch and matchcontin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0" y="1006560"/>
            <a:ext cx="9144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Modelica has two different match-expres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continue runs all matching cases in order until it finds one that succee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 runs only the first matching c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both are useful to describe different program flo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79280" y="3192480"/>
            <a:ext cx="5218200" cy="1846080"/>
            <a:chOff x="179280" y="3192480"/>
            <a:chExt cx="5218200" cy="1846080"/>
          </a:xfrm>
        </p:grpSpPr>
        <p:sp>
          <p:nvSpPr>
            <p:cNvPr id="282" name="Rectangle 4"/>
            <p:cNvSpPr/>
            <p:nvPr/>
          </p:nvSpPr>
          <p:spPr>
            <a:xfrm>
              <a:off x="263520" y="3216240"/>
              <a:ext cx="5133960" cy="1822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5"/>
            <p:cNvSpPr/>
            <p:nvPr/>
          </p:nvSpPr>
          <p:spPr>
            <a:xfrm>
              <a:off x="179280" y="3192480"/>
              <a:ext cx="5133960" cy="182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_ := match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ase 1 then fail(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matc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3060720" y="3600360"/>
            <a:ext cx="5757840" cy="2697120"/>
            <a:chOff x="3060720" y="3600360"/>
            <a:chExt cx="5757840" cy="2697120"/>
          </a:xfrm>
        </p:grpSpPr>
        <p:sp>
          <p:nvSpPr>
            <p:cNvPr id="285" name="Rectangle 7"/>
            <p:cNvSpPr/>
            <p:nvPr/>
          </p:nvSpPr>
          <p:spPr>
            <a:xfrm>
              <a:off x="3152880" y="3633840"/>
              <a:ext cx="5665680" cy="2663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8"/>
            <p:cNvSpPr/>
            <p:nvPr/>
          </p:nvSpPr>
          <p:spPr>
            <a:xfrm>
              <a:off x="3060720" y="3600360"/>
              <a:ext cx="5665680" cy="266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_ := matchcontinue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ase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This constraint needs to be added to th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beginning of every subsequent cas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alse = i == 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MetaModelica Reserved W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177840" y="1006560"/>
            <a:ext cx="896616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Underscore is a reserved word used as a pattern placeholder, name placeholder in anonymous functions, types, classes, etc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tc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tch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continue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/matchcontinue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for local declarations in match expressions, etc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uniontyp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union type declarations, e.g. tree data type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s-express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Reserved Words Cont'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be a reserved word, but this is not necessary since it is only used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(..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edefined parameterized union ty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Builtin Functions and Opera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...&gt; – list type constructor, in type cont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...&gt; – tuple type construc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) – list data constructor, in expression cont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attac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 front of l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 Raise fail exception, having null val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, ..., ...) or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Lis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343080" y="1163520"/>
            <a:ext cx="834372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modeling increasingly important, also for the Modelica language and its appl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modeling/meta-programming extensions allow writing a Modelica compiler in Model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re recursive union types (trees), lists, and match-expressions – standard constructs found in functional langu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odelica compiler implemented using MetaModelica extensions since March 2006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ping - Ongoing work to compile OpenModelica compiler using itself, completed spring 2011 (excluding garbage collec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ome Semantics Modeling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03040" y="1125360"/>
            <a:ext cx="8382240" cy="53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ility - allow models to also model language proper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es to classify application doma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 example, semantic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-based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ica – hybrid differential algebraic equ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ngle-assignment equations – functional languages, SOS/Natural semant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Unification equations: logic programming and functional languages, SOS/Natural semant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n usually be efficiently execu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irst-order logi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ften computationally intractable for realistic applications in its general fo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Level Operations on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re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ip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tion of model equations f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imization purpo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aralleliz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 check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mulation with different solv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ow model packages for tool ext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 Automatic PDE discretization sche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Level Operations on Models, Co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configuration for simulation purpo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 st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ization via xml data files or datab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a simulation and display a resul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more simulations in parall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Handle simulation failures and continue the simulation in a different w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generate ONLY specific data from a sim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manipulate simulation data for export to another to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Modelica Compiler (MMC) and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delica is an extend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ML compiler supports only Meta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MC supports Modelica 3.1 + Meta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development of OM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etaModelica Language properti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odelica syntax and base semantic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attern matching (named/positional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ocal equations (local within expression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Recursive tree data structur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ists and tupl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Garbage collection of heap-allocated dat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Arrays (different from standard Modelica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Vectors (array with local update as in standard Modelica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olymorphic func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Function formal parameters to func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imple builtin exception (failure) handling mechanis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any of these features come from functional programming languag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 Simple match-Expression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203040" y="1125360"/>
            <a:ext cx="75186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, returning a number, given a str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282680" y="2120760"/>
            <a:ext cx="4049640" cy="2970360"/>
            <a:chOff x="1282680" y="2120760"/>
            <a:chExt cx="4049640" cy="2970360"/>
          </a:xfrm>
        </p:grpSpPr>
        <p:sp>
          <p:nvSpPr>
            <p:cNvPr id="115" name="Rectangle 4"/>
            <p:cNvSpPr/>
            <p:nvPr/>
          </p:nvSpPr>
          <p:spPr>
            <a:xfrm>
              <a:off x="1355760" y="2281320"/>
              <a:ext cx="3976560" cy="2809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1282680" y="2120760"/>
              <a:ext cx="3976560" cy="28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1287360" y="2131920"/>
              <a:ext cx="39499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tring s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al   x;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x :=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one"   then 1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two"   then 2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three" then 3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lse              0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ree Types – uniontype Declaration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03040" y="1125360"/>
            <a:ext cx="37576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 specifie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e or more record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 can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n reference themsel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 type is a union type of three record typ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onstructors INT, NEG and AD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usage is abstract syntax tre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4000680" y="1816200"/>
            <a:ext cx="5065560" cy="1458720"/>
            <a:chOff x="4000680" y="1816200"/>
            <a:chExt cx="5065560" cy="1458720"/>
          </a:xfrm>
        </p:grpSpPr>
        <p:sp>
          <p:nvSpPr>
            <p:cNvPr id="121" name="Rectangle 4"/>
            <p:cNvSpPr/>
            <p:nvPr/>
          </p:nvSpPr>
          <p:spPr>
            <a:xfrm>
              <a:off x="4054320" y="1882800"/>
              <a:ext cx="5011920" cy="1392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>
              <a:off x="4000680" y="1816200"/>
              <a:ext cx="5011560" cy="13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006800" y="1822320"/>
              <a:ext cx="49784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INT  Integer x1;     end IN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EG  Exp x1;         end NEG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ADD  Exp x1; Exp x2; end ADD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Rectangle 7"/>
          <p:cNvSpPr/>
          <p:nvPr/>
        </p:nvSpPr>
        <p:spPr>
          <a:xfrm>
            <a:off x="3959280" y="12762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delica  tree type declarati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6814080" y="3884760"/>
            <a:ext cx="1376640" cy="1285560"/>
            <a:chOff x="6814080" y="3884760"/>
            <a:chExt cx="1376640" cy="1285560"/>
          </a:xfrm>
        </p:grpSpPr>
        <p:sp>
          <p:nvSpPr>
            <p:cNvPr id="126" name="Rectangle 9"/>
            <p:cNvSpPr/>
            <p:nvPr/>
          </p:nvSpPr>
          <p:spPr>
            <a:xfrm>
              <a:off x="7248240" y="389736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0"/>
            <p:cNvSpPr/>
            <p:nvPr/>
          </p:nvSpPr>
          <p:spPr>
            <a:xfrm>
              <a:off x="6814080" y="4543560"/>
              <a:ext cx="31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6958080" y="4778280"/>
              <a:ext cx="12600" cy="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6958080" y="4956120"/>
              <a:ext cx="12600" cy="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6958080" y="4778280"/>
              <a:ext cx="12600" cy="176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4"/>
            <p:cNvSpPr/>
            <p:nvPr/>
          </p:nvSpPr>
          <p:spPr>
            <a:xfrm>
              <a:off x="6930360" y="4941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5"/>
            <p:cNvSpPr/>
            <p:nvPr/>
          </p:nvSpPr>
          <p:spPr>
            <a:xfrm>
              <a:off x="7872840" y="4543560"/>
              <a:ext cx="31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8040600" y="4778280"/>
              <a:ext cx="12960" cy="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7"/>
            <p:cNvSpPr/>
            <p:nvPr/>
          </p:nvSpPr>
          <p:spPr>
            <a:xfrm>
              <a:off x="8040600" y="4956120"/>
              <a:ext cx="12960" cy="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18"/>
            <p:cNvSpPr/>
            <p:nvPr/>
          </p:nvSpPr>
          <p:spPr>
            <a:xfrm>
              <a:off x="8040600" y="4778280"/>
              <a:ext cx="12960" cy="176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9"/>
            <p:cNvSpPr/>
            <p:nvPr/>
          </p:nvSpPr>
          <p:spPr>
            <a:xfrm>
              <a:off x="7957080" y="4941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7507440" y="38847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07440" y="415908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6958080" y="45576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6958080" y="4159080"/>
              <a:ext cx="560160" cy="4114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7507440" y="415908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8055000" y="45576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07440" y="4159080"/>
              <a:ext cx="560160" cy="4114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Rectangle 27"/>
          <p:cNvSpPr/>
          <p:nvPr/>
        </p:nvSpPr>
        <p:spPr>
          <a:xfrm>
            <a:off x="3936960" y="411012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INT(6),INT(44)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203040" y="20628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nother uniontype Declaration of Exp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3240000" y="2165400"/>
            <a:ext cx="5749920" cy="2692440"/>
            <a:chOff x="3240000" y="2165400"/>
            <a:chExt cx="5749920" cy="2692440"/>
          </a:xfrm>
        </p:grpSpPr>
        <p:sp>
          <p:nvSpPr>
            <p:cNvPr id="147" name="Rectangle 3"/>
            <p:cNvSpPr/>
            <p:nvPr/>
          </p:nvSpPr>
          <p:spPr>
            <a:xfrm>
              <a:off x="3300480" y="2287440"/>
              <a:ext cx="5689440" cy="2570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3240000" y="2165400"/>
              <a:ext cx="5689800" cy="257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INTconst Integer x1;  end INTcons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PLUSop  Exp x1; Exp x2; end PLUS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SUBop   Exp x1; Exp x2; end SUB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MULop   Exp x1; Exp x2; end MUL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DIVop   Exp x1; Exp x2; end DIV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EGop   Exp x1;         end NEG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Rectangle 5"/>
          <p:cNvSpPr/>
          <p:nvPr/>
        </p:nvSpPr>
        <p:spPr>
          <a:xfrm>
            <a:off x="3213000" y="1316160"/>
            <a:ext cx="57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 syntax tree data type declaration of Exp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79360" y="470700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+5*1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144360" y="2158920"/>
            <a:ext cx="2986200" cy="2129040"/>
            <a:chOff x="144360" y="2158920"/>
            <a:chExt cx="2986200" cy="2129040"/>
          </a:xfrm>
        </p:grpSpPr>
        <p:sp>
          <p:nvSpPr>
            <p:cNvPr id="152" name="Rectangle 8"/>
            <p:cNvSpPr/>
            <p:nvPr/>
          </p:nvSpPr>
          <p:spPr>
            <a:xfrm>
              <a:off x="144360" y="2158920"/>
              <a:ext cx="2986200" cy="21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9"/>
            <p:cNvSpPr/>
            <p:nvPr/>
          </p:nvSpPr>
          <p:spPr>
            <a:xfrm>
              <a:off x="1117440" y="2158920"/>
              <a:ext cx="65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LUSop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>
              <a:off x="1928520" y="2982960"/>
              <a:ext cx="614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MULop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163080" y="29829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12"/>
            <p:cNvSpPr/>
            <p:nvPr/>
          </p:nvSpPr>
          <p:spPr>
            <a:xfrm>
              <a:off x="514440" y="3218040"/>
              <a:ext cx="12600" cy="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>
              <a:off x="514440" y="3395520"/>
              <a:ext cx="12600" cy="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>
              <a:off x="514440" y="3218040"/>
              <a:ext cx="12600" cy="176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429120" y="33829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1272600" y="36291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1623960" y="3863880"/>
              <a:ext cx="12600" cy="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8"/>
            <p:cNvSpPr/>
            <p:nvPr/>
          </p:nvSpPr>
          <p:spPr>
            <a:xfrm>
              <a:off x="1623960" y="4041720"/>
              <a:ext cx="12600" cy="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9"/>
            <p:cNvSpPr/>
            <p:nvPr/>
          </p:nvSpPr>
          <p:spPr>
            <a:xfrm>
              <a:off x="1623960" y="3863880"/>
              <a:ext cx="12600" cy="176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20"/>
            <p:cNvSpPr/>
            <p:nvPr/>
          </p:nvSpPr>
          <p:spPr>
            <a:xfrm>
              <a:off x="1596240" y="4027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21"/>
            <p:cNvSpPr/>
            <p:nvPr/>
          </p:nvSpPr>
          <p:spPr>
            <a:xfrm>
              <a:off x="2369520" y="36291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2706840" y="3863880"/>
              <a:ext cx="12600" cy="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3"/>
            <p:cNvSpPr/>
            <p:nvPr/>
          </p:nvSpPr>
          <p:spPr>
            <a:xfrm>
              <a:off x="2706840" y="4041720"/>
              <a:ext cx="12600" cy="3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>
              <a:off x="2706840" y="3863880"/>
              <a:ext cx="12600" cy="176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>
              <a:off x="2622960" y="40273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26"/>
            <p:cNvSpPr/>
            <p:nvPr/>
          </p:nvSpPr>
          <p:spPr>
            <a:xfrm>
              <a:off x="1363680" y="242100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27"/>
            <p:cNvSpPr/>
            <p:nvPr/>
          </p:nvSpPr>
          <p:spPr>
            <a:xfrm>
              <a:off x="541440" y="2970360"/>
              <a:ext cx="12600" cy="10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28"/>
            <p:cNvSpPr/>
            <p:nvPr/>
          </p:nvSpPr>
          <p:spPr>
            <a:xfrm>
              <a:off x="541440" y="2421000"/>
              <a:ext cx="834840" cy="5601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527" h="354">
                  <a:moveTo>
                    <a:pt x="527" y="8"/>
                  </a:moveTo>
                  <a:lnTo>
                    <a:pt x="518" y="0"/>
                  </a:lnTo>
                  <a:lnTo>
                    <a:pt x="0" y="346"/>
                  </a:lnTo>
                  <a:lnTo>
                    <a:pt x="9" y="354"/>
                  </a:lnTo>
                  <a:lnTo>
                    <a:pt x="5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29"/>
            <p:cNvSpPr/>
            <p:nvPr/>
          </p:nvSpPr>
          <p:spPr>
            <a:xfrm>
              <a:off x="1363680" y="242100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0"/>
            <p:cNvSpPr/>
            <p:nvPr/>
          </p:nvSpPr>
          <p:spPr>
            <a:xfrm>
              <a:off x="2173320" y="297036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31"/>
            <p:cNvSpPr/>
            <p:nvPr/>
          </p:nvSpPr>
          <p:spPr>
            <a:xfrm>
              <a:off x="1363680" y="2421000"/>
              <a:ext cx="820800" cy="56016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518" h="354">
                  <a:moveTo>
                    <a:pt x="9" y="0"/>
                  </a:moveTo>
                  <a:lnTo>
                    <a:pt x="0" y="8"/>
                  </a:lnTo>
                  <a:lnTo>
                    <a:pt x="510" y="354"/>
                  </a:lnTo>
                  <a:lnTo>
                    <a:pt x="518" y="3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32"/>
            <p:cNvSpPr/>
            <p:nvPr/>
          </p:nvSpPr>
          <p:spPr>
            <a:xfrm>
              <a:off x="2173320" y="324468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33"/>
            <p:cNvSpPr/>
            <p:nvPr/>
          </p:nvSpPr>
          <p:spPr>
            <a:xfrm>
              <a:off x="1623960" y="36432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34"/>
            <p:cNvSpPr/>
            <p:nvPr/>
          </p:nvSpPr>
          <p:spPr>
            <a:xfrm>
              <a:off x="1623960" y="3244680"/>
              <a:ext cx="560520" cy="411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35"/>
            <p:cNvSpPr/>
            <p:nvPr/>
          </p:nvSpPr>
          <p:spPr>
            <a:xfrm>
              <a:off x="2173320" y="324468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36"/>
            <p:cNvSpPr/>
            <p:nvPr/>
          </p:nvSpPr>
          <p:spPr>
            <a:xfrm>
              <a:off x="2720880" y="3643200"/>
              <a:ext cx="12960" cy="1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37"/>
            <p:cNvSpPr/>
            <p:nvPr/>
          </p:nvSpPr>
          <p:spPr>
            <a:xfrm>
              <a:off x="2173320" y="3244680"/>
              <a:ext cx="560520" cy="411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Rectangle 38"/>
          <p:cNvSpPr/>
          <p:nvPr/>
        </p:nvSpPr>
        <p:spPr>
          <a:xfrm>
            <a:off x="266760" y="543096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USop(INTconst(12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op(INTconst(5),INTconst(13))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07:46Z</dcterms:created>
  <dc:creator>Peter Fritzson</dc:creator>
  <dc:description/>
  <dc:language>en-US</dc:language>
  <cp:lastModifiedBy>Martin Sjolund</cp:lastModifiedBy>
  <dcterms:modified xsi:type="dcterms:W3CDTF">2011-09-15T15:53:00Z</dcterms:modified>
  <cp:revision>576</cp:revision>
  <dc:subject/>
  <dc:title>Slide 1</dc:title>
</cp:coreProperties>
</file>